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5DF-3847-4281-A8FB-4BA163B9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7C7-E917-412B-800F-50CC0009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C63-E0F3-4261-9F8A-5E2BF2DC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2FA-7C8C-464A-93D5-4B01D01C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4F12-9786-45FE-BDBD-99D3A11C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5D6-B723-4AA2-804D-2CDDCB5D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8EE-B421-423B-8C83-76DD93A3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303-75B8-4530-A90F-19FC2760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E4D-DABE-4A7C-87A6-36629714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9AD-AADE-4326-9091-5E9D1F28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1F6-250C-4ACA-B503-8028AFD9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15D-B193-43CE-8508-16D58722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86A2-00DB-41C7-ACA2-B3F0FC8A6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The Suez Canal from Space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Suez%20Canal%20today"/>
          <p:cNvPicPr/>
          <p:nvPr/>
        </p:nvPicPr>
        <p:blipFill>
          <a:blip r:embed="rId2"/>
          <a:stretch/>
        </p:blipFill>
        <p:spPr>
          <a:xfrm>
            <a:off x="4343400" y="1295280"/>
            <a:ext cx="3224160" cy="4267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0" y="1905120"/>
            <a:ext cx="236232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11-1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s found on p.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al is man-made. What is its na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name of this landform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his canal connects the Mediterranean Sea to what other body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V="1">
            <a:off x="1981080" y="2666880"/>
            <a:ext cx="3048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2895480" y="3733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4648320" y="3808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terranean 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7924680" y="31240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182880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uez 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1614600" y="45370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nai Penins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219320" y="6357960"/>
            <a:ext cx="23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d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egypt"/>
          <p:cNvPicPr/>
          <p:nvPr/>
        </p:nvPicPr>
        <p:blipFill>
          <a:blip r:embed="rId3"/>
          <a:srcRect l="0" t="4347" r="0" b="4666"/>
          <a:stretch/>
        </p:blipFill>
        <p:spPr>
          <a:xfrm>
            <a:off x="24382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0" y="0"/>
            <a:ext cx="2438280" cy="1059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da 11-14 AND 17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N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5029200"/>
          </a:xfrm>
          <a:prstGeom prst="rect">
            <a:avLst/>
          </a:prstGeom>
          <a:ln w="0">
            <a:noFill/>
          </a:ln>
        </p:spPr>
      </p:pic>
      <p:sp>
        <p:nvSpPr>
          <p:cNvPr id="54" name="Title 1"/>
          <p:cNvSpPr/>
          <p:nvPr/>
        </p:nvSpPr>
        <p:spPr>
          <a:xfrm>
            <a:off x="838080" y="304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’s Oil Rese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3:04:17Z</dcterms:created>
  <dc:creator>Selena Ramsey</dc:creator>
  <dc:description/>
  <dc:language>en-US</dc:language>
  <cp:lastModifiedBy>poweruser</cp:lastModifiedBy>
  <dcterms:modified xsi:type="dcterms:W3CDTF">2011-11-17T13:46:14Z</dcterms:modified>
  <cp:revision>21</cp:revision>
  <dc:subject/>
  <dc:title>Slide 1</dc:title>
</cp:coreProperties>
</file>